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9F81-38C6-49BC-ADB3-522DDBF39CB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スライド番号プレースホル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A8D6-1D25-40F5-8F71-3F2EC07A8F8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スライド番号プレースホル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1CFB-0E43-4461-9EF0-723EFE6F8B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スライド番号プレースホル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5FA9-53D5-4D6A-B3A3-C60B5B16978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スライド番号プレースホル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D1DA-DE87-4729-AAFF-F59197A7D5E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スライド番号プレースホル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A650-7772-4041-A1E5-ABE22674A9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BD5C-C981-4D2F-9AFB-D72154413DF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7E5-A3F2-492D-8048-50979A7D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A7B-2FA8-4983-BBCC-29489861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530-0DFD-4EF3-91F2-D30857B0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8D8-0F32-480C-A2BD-5F11C8C1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27DF-7BCE-4606-9D8B-6AD7C19E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2798-047B-433C-8511-846170C7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273D-E2AC-479C-A393-AC8581C9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F151-91A6-4C40-A69E-82E9F36B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05A8-A672-4BC6-A834-C08885E3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2EB4-D94B-406C-AFAC-741FF06A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95E2-7C3F-49AA-A126-15A1ABD2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52A-DE76-48FA-B92C-70FA0F0D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8E06-090A-4C4B-AB7B-B7F9ED4E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7595-0113-437E-A06B-C2D1F2CF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E5D0-F444-4EBD-9902-86C3EAB8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E35E-3AA3-4599-90A5-A79ABE75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9966-6FFF-4047-9354-0AD12B9F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937A-8E43-4E8C-8C09-A4FE42D8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F19-FF66-470E-8FF5-F52EE8FE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D2AF-6A37-4F91-BEE5-199BE2D7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0655-7EBD-4A33-A7D8-F29A9027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3A40-A5DF-449B-8C9B-B0FEE001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B43-AA24-4FFC-B696-0E4D85D2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9496-5364-4F5C-A85C-7E6177FC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51E9-EDC6-4BC3-8064-39D97D3A96EB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7864560" y="0"/>
            <a:ext cx="1279440" cy="588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0D11-1EE6-4E22-9798-EE331479B4D9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50920" y="981000"/>
          <a:ext cx="8642160" cy="11718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応募部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83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.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モバイルプラットフォーム・ソリューション部門　　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2.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モバイルハードウェア部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3.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モバイルコンテンツ部門　　　　　　　　　　　　　　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4.MCF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社会貢献賞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50920" y="2565360"/>
          <a:ext cx="8642160" cy="13302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ゴシック"/>
                          <a:ea typeface="ＭＳ ゴシック"/>
                        </a:rPr>
                        <a:t>プロジェクト名または商品・サービス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名称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URL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50920" y="4221000"/>
          <a:ext cx="8642160" cy="22798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ＭＳ ゴシック"/>
                          <a:ea typeface="ＭＳ ゴシック"/>
                        </a:rPr>
                        <a:t>応募担当者または推薦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会社名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部署名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役職名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氏   名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テキスト ボックス 3"/>
          <p:cNvSpPr/>
          <p:nvPr/>
        </p:nvSpPr>
        <p:spPr>
          <a:xfrm>
            <a:off x="141120" y="415800"/>
            <a:ext cx="579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ＭＳ Ｐゴシック"/>
              </a:rPr>
              <a:t>応募・推薦用紙</a:t>
            </a: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ja-JP" sz="2600" spc="-1" strike="noStrike">
                <a:solidFill>
                  <a:srgbClr val="000000"/>
                </a:solidFill>
                <a:latin typeface="ＭＳ Ｐゴシック"/>
              </a:rPr>
              <a:t>（詳細記入用紙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21"/>
          <p:cNvSpPr/>
          <p:nvPr/>
        </p:nvSpPr>
        <p:spPr>
          <a:xfrm>
            <a:off x="626400" y="2133720"/>
            <a:ext cx="158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※</a:t>
            </a:r>
            <a:r>
              <a:rPr b="0" lang="ja-JP" sz="1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該当する部門を残して下さ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テキスト ボックス 3"/>
          <p:cNvSpPr/>
          <p:nvPr/>
        </p:nvSpPr>
        <p:spPr>
          <a:xfrm>
            <a:off x="473400" y="43668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.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代表的な画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50920" y="1125360"/>
          <a:ext cx="8642160" cy="54864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サービスの画面、概念図もしくは商品の外観な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51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1125360"/>
          <a:ext cx="8642160" cy="54864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サービスの実施期間、会員数、採用数な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51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テキスト ボックス 4"/>
          <p:cNvSpPr/>
          <p:nvPr/>
        </p:nvSpPr>
        <p:spPr>
          <a:xfrm>
            <a:off x="508320" y="436680"/>
            <a:ext cx="152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.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現状および実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テキスト ボックス 1"/>
          <p:cNvSpPr/>
          <p:nvPr/>
        </p:nvSpPr>
        <p:spPr>
          <a:xfrm>
            <a:off x="278280" y="436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3.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概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0920" y="1125360"/>
          <a:ext cx="8642160" cy="54864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プロジェクトまたは商品・サービスの説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51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50920" y="1125360"/>
          <a:ext cx="8642160" cy="54864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応募・推薦の理由、および同種のプロジェクトまたは商品・サービスの優位性、革新性、先進性などの特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51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テキスト ボックス 3"/>
          <p:cNvSpPr/>
          <p:nvPr/>
        </p:nvSpPr>
        <p:spPr>
          <a:xfrm>
            <a:off x="463680" y="4366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4.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アピールポイン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テキスト ボックス 3"/>
          <p:cNvSpPr/>
          <p:nvPr/>
        </p:nvSpPr>
        <p:spPr>
          <a:xfrm>
            <a:off x="497880" y="43668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5.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プロジェクトストーリ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テキスト ボックス 4"/>
          <p:cNvSpPr/>
          <p:nvPr/>
        </p:nvSpPr>
        <p:spPr>
          <a:xfrm>
            <a:off x="146160" y="6588000"/>
            <a:ext cx="814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ＭＳ Ｐゴシック"/>
              </a:rPr>
              <a:t>※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書ききれずに資料を添付する場合は</a:t>
            </a:r>
            <a:r>
              <a:rPr b="0" lang="en-US" sz="1200" spc="-1" strike="noStrike">
                <a:solidFill>
                  <a:srgbClr val="ff0000"/>
                </a:solidFill>
                <a:latin typeface="ＭＳ Ｐゴシック"/>
              </a:rPr>
              <a:t>PowerPoint</a:t>
            </a:r>
            <a:r>
              <a:rPr b="0" lang="ja-JP" sz="1200" spc="-1" strike="noStrike">
                <a:solidFill>
                  <a:srgbClr val="ff0000"/>
                </a:solidFill>
                <a:latin typeface="ＭＳ Ｐゴシック"/>
              </a:rPr>
              <a:t>形式で、本用紙に追加して下さ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50920" y="1052640"/>
          <a:ext cx="8642160" cy="54878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開発時の目標、課題と克服、最終的な成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51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01:40:01Z</dcterms:created>
  <dc:creator>aoki</dc:creator>
  <dc:description/>
  <dc:language>en-US</dc:language>
  <cp:lastModifiedBy>koshiga</cp:lastModifiedBy>
  <dcterms:modified xsi:type="dcterms:W3CDTF">2015-03-18T09:38:45Z</dcterms:modified>
  <cp:revision>48</cp:revision>
  <dc:subject/>
  <dc:title>スライド 1</dc:title>
</cp:coreProperties>
</file>